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6D9-B8C4-494F-A873-B4CAA754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4372-F715-47A7-902F-748B2ACA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22B-7D3C-48F2-B88C-F9FCDE4D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1BE-81BA-4CA0-A339-E9ED05E9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FF31-4573-4AF4-80CA-692276D2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4B5-D5EC-4F25-BC64-B677AE7C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784-FF2D-4437-8783-9FE106DC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08F-A743-4593-BDFC-CBF4F38D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CFB-65E8-4CDF-8C29-A84112EF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8BF-D124-416A-BD29-5BC6CED7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014-1D04-4FD3-821C-949DACE8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1BAA-FB9D-43E7-B16E-8E1F9692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FF82-7CF5-45C0-A2EB-0940FF81C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auschen von Daten im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61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1468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3856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62440" y="2585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8164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96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2193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0=3; k1=5; k2=6; k3=9; k4=8; k5=2; k6=4; k7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828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le Werte sind vom Typ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61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1468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3856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62440" y="306720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8164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96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09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wenden einer Hilfsvariab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1219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 tausch; tausch=k2; k2=k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5867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u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861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1468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856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62440" y="2585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8164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96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61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1468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3856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62440" y="306720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8164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96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244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52480" y="58672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09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wenden einer Hilfsvariab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219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 tausch; tausch=k2; k2=k3; </a:t>
            </a:r>
            <a:r>
              <a:rPr b="0" lang="de-DE" sz="2400" spc="-1" strike="noStrike">
                <a:solidFill>
                  <a:srgbClr val="00cc99"/>
                </a:solidFill>
                <a:latin typeface="Times New Roman"/>
              </a:rPr>
              <a:t>k3=tausc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5867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u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861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1468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3856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62440" y="2585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8164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55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196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244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861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1468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3856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62440" y="306720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8164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96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244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52480" y="58672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09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wenden einer Hilfsvariab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1219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 tausch; tausch=k2; k2=k3; k3=tausc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5867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u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58672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61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1468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3856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62440" y="2585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8164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96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244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861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1468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3856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62440" y="306720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8164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055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96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371600" y="1219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 tausch; tausch=k2; k2=k3; k3=tausc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61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1468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3856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2440" y="2585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8164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055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196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861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1468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3856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62440" y="306720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8164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196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244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52578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ach Beendigung der Tauschmethode wird die Hilfsvariable gelösc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auschen k2 mit k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1371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irekter Tausch  k2=k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61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468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3856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62440" y="2585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8164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196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61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1468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3856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62440" y="306720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164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196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09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auschen k2 mit k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2952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kter Tausch  k2=k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61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1468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3856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2440" y="2585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8164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96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61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1468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3856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62440" y="306720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8164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96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auschen k2 mit k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1295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olge: 6 wurde durch 9 überschrieben!!!!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61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1468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3856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62440" y="2585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8164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96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61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1468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3856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62440" y="306720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164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96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09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wenden einer Hilfsvariab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1219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cc99"/>
                </a:solidFill>
                <a:latin typeface="Times New Roman"/>
              </a:rPr>
              <a:t>int tausch; //Variable deklari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61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1468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3856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2440" y="2585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8164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96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61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1468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3856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62440" y="306720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8164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96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09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wenden einer Hilfsvariab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1219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 tausch; //Variable deklarieren</a:t>
            </a:r>
            <a:r>
              <a:rPr b="0" lang="de-DE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5867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au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61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1468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3856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62440" y="2585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8164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96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861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1468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3856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62440" y="306720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8164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96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09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wenden einer Hilfsvariab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219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 tausch; </a:t>
            </a:r>
            <a:r>
              <a:rPr b="0" lang="de-DE" sz="2400" spc="-1" strike="noStrike">
                <a:solidFill>
                  <a:srgbClr val="00cc99"/>
                </a:solidFill>
                <a:latin typeface="Times New Roman"/>
              </a:rPr>
              <a:t>tausch=k2; //k2 zwischenspeicher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867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u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61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1468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3856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62440" y="2585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8164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96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61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1468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3856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62440" y="306720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8164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196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09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wenden einer Hilfsvariab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1219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 tausch; tausch=k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5867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u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61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1468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3856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62440" y="2585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8164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96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61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1468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3856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62440" y="306720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8164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96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58672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609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wenden einer Hilfsvariab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1219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 tausch; tausch=k2; </a:t>
            </a:r>
            <a:r>
              <a:rPr b="0" lang="de-DE" sz="2400" spc="-1" strike="noStrike">
                <a:solidFill>
                  <a:srgbClr val="00cc99"/>
                </a:solidFill>
                <a:latin typeface="Times New Roman"/>
              </a:rPr>
              <a:t>k2=k3; //direkt tau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5867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u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58672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61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1468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3856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62440" y="2585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8164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96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259092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61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1468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3856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62440" y="306720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8164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307188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96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071880"/>
            <a:ext cx="60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0:08:35Z</dcterms:created>
  <dc:creator>AFG</dc:creator>
  <dc:description/>
  <dc:language>en-US</dc:language>
  <cp:lastModifiedBy>AFG</cp:lastModifiedBy>
  <dcterms:modified xsi:type="dcterms:W3CDTF">2006-01-19T11:10:07Z</dcterms:modified>
  <cp:revision>28</cp:revision>
  <dc:subject/>
  <dc:title>Vertauschen von zwei Objekten</dc:title>
</cp:coreProperties>
</file>