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EEF-20BA-43FD-8882-0671947C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AB1-FB25-4105-9305-EFEE3DE2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B64-6CD6-49DB-B2C0-EE2C89A1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133-1F91-41A8-83E9-C65595F1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027-2074-49C4-B6A2-63763C45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EBE-4A58-4704-B43C-85CA44B1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A03-BEB1-4F2E-836C-2BB58320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94F-34E7-400A-B517-40E4E391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7D3-4A5E-4338-92A2-8417AB20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3EF-5A18-4DEE-ADF7-F5FD0851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AA6F-EDDB-4B96-AB02-F4906682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6DC-054A-412E-8117-FA73CE62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6B5E-019F-487C-9E87-95BA70536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ufbau einer Schl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752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ad und tail werden am Anfang auf null ge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375640" y="3580920"/>
            <a:ext cx="1734480" cy="1397160"/>
            <a:chOff x="2375640" y="3580920"/>
            <a:chExt cx="1734480" cy="1397160"/>
          </a:xfrm>
        </p:grpSpPr>
        <p:sp>
          <p:nvSpPr>
            <p:cNvPr id="44" name=""/>
            <p:cNvSpPr/>
            <p:nvPr/>
          </p:nvSpPr>
          <p:spPr>
            <a:xfrm flipV="1">
              <a:off x="3119400" y="3580920"/>
              <a:ext cx="9907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9531800">
              <a:off x="2438640" y="434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532040" y="3618360"/>
            <a:ext cx="1583280" cy="1460160"/>
            <a:chOff x="4532040" y="3618360"/>
            <a:chExt cx="1583280" cy="1460160"/>
          </a:xfrm>
        </p:grpSpPr>
        <p:sp>
          <p:nvSpPr>
            <p:cNvPr id="47" name=""/>
            <p:cNvSpPr/>
            <p:nvPr/>
          </p:nvSpPr>
          <p:spPr>
            <a:xfrm flipH="1" flipV="1">
              <a:off x="4532040" y="3618360"/>
              <a:ext cx="903240" cy="77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615400">
              <a:off x="5299560" y="441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4033800" y="3195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733920" y="16002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20574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1000" y="3505320"/>
            <a:ext cx="1734120" cy="1396440"/>
            <a:chOff x="171000" y="3505320"/>
            <a:chExt cx="1734120" cy="1396440"/>
          </a:xfrm>
        </p:grpSpPr>
        <p:sp>
          <p:nvSpPr>
            <p:cNvPr id="143" name=""/>
            <p:cNvSpPr/>
            <p:nvPr/>
          </p:nvSpPr>
          <p:spPr>
            <a:xfrm flipV="1">
              <a:off x="914400" y="350532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9531800">
              <a:off x="234000" y="4266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931840" y="3547080"/>
            <a:ext cx="1583280" cy="1460160"/>
            <a:chOff x="2931840" y="3547080"/>
            <a:chExt cx="1583280" cy="1460160"/>
          </a:xfrm>
        </p:grpSpPr>
        <p:sp>
          <p:nvSpPr>
            <p:cNvPr id="146" name=""/>
            <p:cNvSpPr/>
            <p:nvPr/>
          </p:nvSpPr>
          <p:spPr>
            <a:xfrm flipH="1" flipV="1">
              <a:off x="2931840" y="3547080"/>
              <a:ext cx="903240" cy="77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615400">
              <a:off x="3699360" y="4347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814480" y="3195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3800" y="3195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808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e Elemente anfü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Nachfolger 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733920" y="16002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20574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71000" y="3505320"/>
            <a:ext cx="1734120" cy="1396440"/>
            <a:chOff x="171000" y="3505320"/>
            <a:chExt cx="1734120" cy="1396440"/>
          </a:xfrm>
        </p:grpSpPr>
        <p:sp>
          <p:nvSpPr>
            <p:cNvPr id="157" name=""/>
            <p:cNvSpPr/>
            <p:nvPr/>
          </p:nvSpPr>
          <p:spPr>
            <a:xfrm flipV="1">
              <a:off x="914400" y="350532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9531800">
              <a:off x="234000" y="4266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931840" y="3547080"/>
            <a:ext cx="1583280" cy="1460160"/>
            <a:chOff x="2931840" y="3547080"/>
            <a:chExt cx="1583280" cy="1460160"/>
          </a:xfrm>
        </p:grpSpPr>
        <p:sp>
          <p:nvSpPr>
            <p:cNvPr id="160" name=""/>
            <p:cNvSpPr/>
            <p:nvPr/>
          </p:nvSpPr>
          <p:spPr>
            <a:xfrm flipH="1" flipV="1">
              <a:off x="2931840" y="3547080"/>
              <a:ext cx="903240" cy="77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615400">
              <a:off x="3699360" y="4347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V="1">
            <a:off x="2922120" y="2014200"/>
            <a:ext cx="774000" cy="103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3800" y="3195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3808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e Elemente anfü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Nachfolger 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733920" y="16002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20574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71000" y="3505320"/>
            <a:ext cx="1734120" cy="1396440"/>
            <a:chOff x="171000" y="3505320"/>
            <a:chExt cx="1734120" cy="1396440"/>
          </a:xfrm>
        </p:grpSpPr>
        <p:sp>
          <p:nvSpPr>
            <p:cNvPr id="171" name=""/>
            <p:cNvSpPr/>
            <p:nvPr/>
          </p:nvSpPr>
          <p:spPr>
            <a:xfrm flipV="1">
              <a:off x="914400" y="350532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9531800">
              <a:off x="234000" y="4266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931840" y="3547080"/>
            <a:ext cx="1583280" cy="1460160"/>
            <a:chOff x="2931840" y="3547080"/>
            <a:chExt cx="1583280" cy="1460160"/>
          </a:xfrm>
        </p:grpSpPr>
        <p:sp>
          <p:nvSpPr>
            <p:cNvPr id="174" name=""/>
            <p:cNvSpPr/>
            <p:nvPr/>
          </p:nvSpPr>
          <p:spPr>
            <a:xfrm flipH="1" flipV="1">
              <a:off x="2931840" y="3547080"/>
              <a:ext cx="903240" cy="77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615400">
              <a:off x="3699360" y="4347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2922120" y="2014200"/>
            <a:ext cx="774000" cy="103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3800" y="3195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3808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ue Elemente anfü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 tail auf Nachfolger 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33920" y="16002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33920" y="20574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670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71000" y="3505320"/>
            <a:ext cx="1734120" cy="1396440"/>
            <a:chOff x="171000" y="3505320"/>
            <a:chExt cx="1734120" cy="1396440"/>
          </a:xfrm>
        </p:grpSpPr>
        <p:sp>
          <p:nvSpPr>
            <p:cNvPr id="185" name=""/>
            <p:cNvSpPr/>
            <p:nvPr/>
          </p:nvSpPr>
          <p:spPr>
            <a:xfrm flipV="1">
              <a:off x="914400" y="350532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9531800">
              <a:off x="234000" y="4266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38920" y="2190240"/>
            <a:ext cx="538200" cy="1942200"/>
            <a:chOff x="3238920" y="2190240"/>
            <a:chExt cx="538200" cy="1942200"/>
          </a:xfrm>
        </p:grpSpPr>
        <p:sp>
          <p:nvSpPr>
            <p:cNvPr id="188" name=""/>
            <p:cNvSpPr/>
            <p:nvPr/>
          </p:nvSpPr>
          <p:spPr>
            <a:xfrm flipV="1">
              <a:off x="3558960" y="2190240"/>
              <a:ext cx="68040" cy="11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766000">
              <a:off x="3126960" y="349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V="1">
            <a:off x="2922120" y="2014200"/>
            <a:ext cx="774000" cy="103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3800" y="3195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3808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ue Elemente anfü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 tail auf Nachfolger 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71000" y="3505320"/>
            <a:ext cx="1734120" cy="1396440"/>
            <a:chOff x="171000" y="3505320"/>
            <a:chExt cx="1734120" cy="1396440"/>
          </a:xfrm>
        </p:grpSpPr>
        <p:sp>
          <p:nvSpPr>
            <p:cNvPr id="196" name=""/>
            <p:cNvSpPr/>
            <p:nvPr/>
          </p:nvSpPr>
          <p:spPr>
            <a:xfrm flipV="1">
              <a:off x="914400" y="350532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9531800">
              <a:off x="234000" y="4266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819520" y="2471760"/>
            <a:ext cx="4267080" cy="2535120"/>
            <a:chOff x="2819520" y="2471760"/>
            <a:chExt cx="4267080" cy="2535120"/>
          </a:xfrm>
        </p:grpSpPr>
        <p:sp>
          <p:nvSpPr>
            <p:cNvPr id="201" name=""/>
            <p:cNvSpPr/>
            <p:nvPr/>
          </p:nvSpPr>
          <p:spPr>
            <a:xfrm>
              <a:off x="4114800" y="247176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hal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14800" y="292896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52880" y="31957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72200" y="3195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19520" y="3200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023080" y="3547080"/>
              <a:ext cx="1582560" cy="1459800"/>
              <a:chOff x="5023080" y="3547080"/>
              <a:chExt cx="1582560" cy="1459800"/>
            </a:xfrm>
          </p:grpSpPr>
          <p:sp>
            <p:nvSpPr>
              <p:cNvPr id="207" name=""/>
              <p:cNvSpPr/>
              <p:nvPr/>
            </p:nvSpPr>
            <p:spPr>
              <a:xfrm flipH="1" flipV="1">
                <a:off x="5023080" y="3547080"/>
                <a:ext cx="902880" cy="77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615400">
                <a:off x="5790240" y="43477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ta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2743200" y="762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71000" y="3505320"/>
            <a:ext cx="1734120" cy="1396440"/>
            <a:chOff x="171000" y="3505320"/>
            <a:chExt cx="1734120" cy="1396440"/>
          </a:xfrm>
        </p:grpSpPr>
        <p:sp>
          <p:nvSpPr>
            <p:cNvPr id="211" name=""/>
            <p:cNvSpPr/>
            <p:nvPr/>
          </p:nvSpPr>
          <p:spPr>
            <a:xfrm flipV="1">
              <a:off x="914400" y="350532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9531800">
              <a:off x="234000" y="4266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800600" y="2471760"/>
            <a:ext cx="4267080" cy="2535120"/>
            <a:chOff x="4800600" y="2471760"/>
            <a:chExt cx="4267080" cy="2535120"/>
          </a:xfrm>
        </p:grpSpPr>
        <p:sp>
          <p:nvSpPr>
            <p:cNvPr id="216" name=""/>
            <p:cNvSpPr/>
            <p:nvPr/>
          </p:nvSpPr>
          <p:spPr>
            <a:xfrm>
              <a:off x="6095880" y="247176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hal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5880" y="292896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33960" y="31957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153280" y="3195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0600" y="3200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7004160" y="3547080"/>
              <a:ext cx="1582560" cy="1459800"/>
              <a:chOff x="7004160" y="3547080"/>
              <a:chExt cx="1582560" cy="1459800"/>
            </a:xfrm>
          </p:grpSpPr>
          <p:sp>
            <p:nvSpPr>
              <p:cNvPr id="222" name=""/>
              <p:cNvSpPr/>
              <p:nvPr/>
            </p:nvSpPr>
            <p:spPr>
              <a:xfrm flipH="1" flipV="1">
                <a:off x="7004160" y="3547080"/>
                <a:ext cx="902880" cy="77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2615400">
                <a:off x="7771320" y="43477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ta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2743200" y="762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ch ei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25146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29718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bbau einer Schl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71000" y="3505320"/>
            <a:ext cx="1734120" cy="1396440"/>
            <a:chOff x="171000" y="3505320"/>
            <a:chExt cx="1734120" cy="1396440"/>
          </a:xfrm>
        </p:grpSpPr>
        <p:sp>
          <p:nvSpPr>
            <p:cNvPr id="230" name=""/>
            <p:cNvSpPr/>
            <p:nvPr/>
          </p:nvSpPr>
          <p:spPr>
            <a:xfrm flipV="1">
              <a:off x="914400" y="350532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9531800">
              <a:off x="234000" y="4266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800600" y="2471760"/>
            <a:ext cx="4267080" cy="2535120"/>
            <a:chOff x="4800600" y="2471760"/>
            <a:chExt cx="4267080" cy="2535120"/>
          </a:xfrm>
        </p:grpSpPr>
        <p:sp>
          <p:nvSpPr>
            <p:cNvPr id="235" name=""/>
            <p:cNvSpPr/>
            <p:nvPr/>
          </p:nvSpPr>
          <p:spPr>
            <a:xfrm>
              <a:off x="6095880" y="247176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hal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5880" y="292896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3960" y="31957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3280" y="3195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00600" y="3200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7004160" y="3547080"/>
              <a:ext cx="1582560" cy="1459800"/>
              <a:chOff x="7004160" y="3547080"/>
              <a:chExt cx="1582560" cy="1459800"/>
            </a:xfrm>
          </p:grpSpPr>
          <p:sp>
            <p:nvSpPr>
              <p:cNvPr id="241" name=""/>
              <p:cNvSpPr/>
              <p:nvPr/>
            </p:nvSpPr>
            <p:spPr>
              <a:xfrm flipH="1" flipV="1">
                <a:off x="7004160" y="3547080"/>
                <a:ext cx="902880" cy="77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2615400">
                <a:off x="7771320" y="43477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ta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3962520" y="25146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29718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171000" y="3505320"/>
            <a:ext cx="1734120" cy="1396440"/>
            <a:chOff x="171000" y="3505320"/>
            <a:chExt cx="1734120" cy="1396440"/>
          </a:xfrm>
        </p:grpSpPr>
        <p:sp>
          <p:nvSpPr>
            <p:cNvPr id="247" name=""/>
            <p:cNvSpPr/>
            <p:nvPr/>
          </p:nvSpPr>
          <p:spPr>
            <a:xfrm flipV="1">
              <a:off x="914400" y="350532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9531800">
              <a:off x="234000" y="4266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800600" y="2471760"/>
            <a:ext cx="4267080" cy="2535120"/>
            <a:chOff x="4800600" y="2471760"/>
            <a:chExt cx="4267080" cy="2535120"/>
          </a:xfrm>
        </p:grpSpPr>
        <p:sp>
          <p:nvSpPr>
            <p:cNvPr id="252" name=""/>
            <p:cNvSpPr/>
            <p:nvPr/>
          </p:nvSpPr>
          <p:spPr>
            <a:xfrm>
              <a:off x="6095880" y="247176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hal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5880" y="292896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3960" y="31957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53280" y="3195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00600" y="3200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004160" y="3547080"/>
              <a:ext cx="1582560" cy="1459800"/>
              <a:chOff x="7004160" y="3547080"/>
              <a:chExt cx="1582560" cy="1459800"/>
            </a:xfrm>
          </p:grpSpPr>
          <p:sp>
            <p:nvSpPr>
              <p:cNvPr id="258" name=""/>
              <p:cNvSpPr/>
              <p:nvPr/>
            </p:nvSpPr>
            <p:spPr>
              <a:xfrm flipH="1" flipV="1">
                <a:off x="7004160" y="3547080"/>
                <a:ext cx="902880" cy="77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615400">
                <a:off x="7771320" y="43477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ta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3962520" y="25146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29718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685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pf in einer Variablen speic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71000" y="3505320"/>
            <a:ext cx="1734120" cy="1396440"/>
            <a:chOff x="171000" y="3505320"/>
            <a:chExt cx="1734120" cy="1396440"/>
          </a:xfrm>
        </p:grpSpPr>
        <p:sp>
          <p:nvSpPr>
            <p:cNvPr id="265" name=""/>
            <p:cNvSpPr/>
            <p:nvPr/>
          </p:nvSpPr>
          <p:spPr>
            <a:xfrm flipV="1">
              <a:off x="914400" y="350532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9531800">
              <a:off x="234000" y="4266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800600" y="2471760"/>
            <a:ext cx="4267080" cy="2535120"/>
            <a:chOff x="4800600" y="2471760"/>
            <a:chExt cx="4267080" cy="2535120"/>
          </a:xfrm>
        </p:grpSpPr>
        <p:sp>
          <p:nvSpPr>
            <p:cNvPr id="270" name=""/>
            <p:cNvSpPr/>
            <p:nvPr/>
          </p:nvSpPr>
          <p:spPr>
            <a:xfrm>
              <a:off x="6095880" y="247176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hal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95880" y="292896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33960" y="31957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53280" y="3195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00600" y="3200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7004160" y="3547080"/>
              <a:ext cx="1582560" cy="1459800"/>
              <a:chOff x="7004160" y="3547080"/>
              <a:chExt cx="1582560" cy="1459800"/>
            </a:xfrm>
          </p:grpSpPr>
          <p:sp>
            <p:nvSpPr>
              <p:cNvPr id="276" name=""/>
              <p:cNvSpPr/>
              <p:nvPr/>
            </p:nvSpPr>
            <p:spPr>
              <a:xfrm flipH="1" flipV="1">
                <a:off x="7004160" y="3547080"/>
                <a:ext cx="902880" cy="77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2615400">
                <a:off x="7771320" y="43477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ta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3962520" y="25146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62520" y="29718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952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960" y="1578600"/>
            <a:ext cx="1793160" cy="1240920"/>
            <a:chOff x="111960" y="1578600"/>
            <a:chExt cx="1793160" cy="1240920"/>
          </a:xfrm>
        </p:grpSpPr>
        <p:sp>
          <p:nvSpPr>
            <p:cNvPr id="282" name=""/>
            <p:cNvSpPr/>
            <p:nvPr/>
          </p:nvSpPr>
          <p:spPr>
            <a:xfrm>
              <a:off x="762120" y="2209680"/>
              <a:ext cx="1143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756800">
              <a:off x="151200" y="18284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676520" y="685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pf in einer Variablen speic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171000" y="3505320"/>
            <a:ext cx="1734120" cy="1396440"/>
            <a:chOff x="171000" y="3505320"/>
            <a:chExt cx="1734120" cy="1396440"/>
          </a:xfrm>
        </p:grpSpPr>
        <p:sp>
          <p:nvSpPr>
            <p:cNvPr id="286" name=""/>
            <p:cNvSpPr/>
            <p:nvPr/>
          </p:nvSpPr>
          <p:spPr>
            <a:xfrm flipV="1">
              <a:off x="914400" y="350532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9531800">
              <a:off x="234000" y="4266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800600" y="2471760"/>
            <a:ext cx="4267080" cy="2535120"/>
            <a:chOff x="4800600" y="2471760"/>
            <a:chExt cx="4267080" cy="2535120"/>
          </a:xfrm>
        </p:grpSpPr>
        <p:sp>
          <p:nvSpPr>
            <p:cNvPr id="291" name=""/>
            <p:cNvSpPr/>
            <p:nvPr/>
          </p:nvSpPr>
          <p:spPr>
            <a:xfrm>
              <a:off x="6095880" y="247176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hal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5880" y="292896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3960" y="31957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53280" y="3195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00600" y="3200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7004160" y="3547080"/>
              <a:ext cx="1582560" cy="1459800"/>
              <a:chOff x="7004160" y="3547080"/>
              <a:chExt cx="1582560" cy="1459800"/>
            </a:xfrm>
          </p:grpSpPr>
          <p:sp>
            <p:nvSpPr>
              <p:cNvPr id="297" name=""/>
              <p:cNvSpPr/>
              <p:nvPr/>
            </p:nvSpPr>
            <p:spPr>
              <a:xfrm flipH="1" flipV="1">
                <a:off x="7004160" y="3547080"/>
                <a:ext cx="902880" cy="77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615400">
                <a:off x="7771320" y="43477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ta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962520" y="25146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29718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11960" y="1578600"/>
            <a:ext cx="1793160" cy="1240920"/>
            <a:chOff x="111960" y="1578600"/>
            <a:chExt cx="1793160" cy="1240920"/>
          </a:xfrm>
        </p:grpSpPr>
        <p:sp>
          <p:nvSpPr>
            <p:cNvPr id="303" name=""/>
            <p:cNvSpPr/>
            <p:nvPr/>
          </p:nvSpPr>
          <p:spPr>
            <a:xfrm>
              <a:off x="762120" y="2209680"/>
              <a:ext cx="1143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756800">
              <a:off x="151200" y="18284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76520" y="685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ad auf nächstes Element 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75640" y="3580920"/>
            <a:ext cx="1734480" cy="1397160"/>
            <a:chOff x="2375640" y="3580920"/>
            <a:chExt cx="1734480" cy="1397160"/>
          </a:xfrm>
        </p:grpSpPr>
        <p:sp>
          <p:nvSpPr>
            <p:cNvPr id="51" name=""/>
            <p:cNvSpPr/>
            <p:nvPr/>
          </p:nvSpPr>
          <p:spPr>
            <a:xfrm flipV="1">
              <a:off x="3119400" y="3580920"/>
              <a:ext cx="9907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9531800">
              <a:off x="2438640" y="434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532040" y="3618360"/>
            <a:ext cx="1583280" cy="1460160"/>
            <a:chOff x="4532040" y="3618360"/>
            <a:chExt cx="1583280" cy="1460160"/>
          </a:xfrm>
        </p:grpSpPr>
        <p:sp>
          <p:nvSpPr>
            <p:cNvPr id="54" name=""/>
            <p:cNvSpPr/>
            <p:nvPr/>
          </p:nvSpPr>
          <p:spPr>
            <a:xfrm flipH="1" flipV="1">
              <a:off x="4532040" y="3618360"/>
              <a:ext cx="903240" cy="77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615400">
              <a:off x="5299560" y="441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033800" y="3195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8380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es Element erzeu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2299680" y="3428640"/>
            <a:ext cx="1733760" cy="1397160"/>
            <a:chOff x="2299680" y="3428640"/>
            <a:chExt cx="1733760" cy="1397160"/>
          </a:xfrm>
        </p:grpSpPr>
        <p:sp>
          <p:nvSpPr>
            <p:cNvPr id="307" name=""/>
            <p:cNvSpPr/>
            <p:nvPr/>
          </p:nvSpPr>
          <p:spPr>
            <a:xfrm flipV="1">
              <a:off x="3043080" y="3428640"/>
              <a:ext cx="9903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9531800">
              <a:off x="2362680" y="41907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800600" y="2471760"/>
            <a:ext cx="4267080" cy="2535120"/>
            <a:chOff x="4800600" y="2471760"/>
            <a:chExt cx="4267080" cy="2535120"/>
          </a:xfrm>
        </p:grpSpPr>
        <p:sp>
          <p:nvSpPr>
            <p:cNvPr id="312" name=""/>
            <p:cNvSpPr/>
            <p:nvPr/>
          </p:nvSpPr>
          <p:spPr>
            <a:xfrm>
              <a:off x="6095880" y="247176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hal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5880" y="292896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33960" y="31957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53280" y="3195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00600" y="3200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7004160" y="3547080"/>
              <a:ext cx="1582560" cy="1459800"/>
              <a:chOff x="7004160" y="3547080"/>
              <a:chExt cx="1582560" cy="1459800"/>
            </a:xfrm>
          </p:grpSpPr>
          <p:sp>
            <p:nvSpPr>
              <p:cNvPr id="318" name=""/>
              <p:cNvSpPr/>
              <p:nvPr/>
            </p:nvSpPr>
            <p:spPr>
              <a:xfrm flipH="1" flipV="1">
                <a:off x="7004160" y="3547080"/>
                <a:ext cx="902880" cy="77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615400">
                <a:off x="7771320" y="43477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ta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>
            <a:off x="3962520" y="25146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29718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11960" y="1578600"/>
            <a:ext cx="1793160" cy="1240920"/>
            <a:chOff x="111960" y="1578600"/>
            <a:chExt cx="1793160" cy="1240920"/>
          </a:xfrm>
        </p:grpSpPr>
        <p:sp>
          <p:nvSpPr>
            <p:cNvPr id="324" name=""/>
            <p:cNvSpPr/>
            <p:nvPr/>
          </p:nvSpPr>
          <p:spPr>
            <a:xfrm>
              <a:off x="762120" y="2209680"/>
              <a:ext cx="1143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756800">
              <a:off x="151200" y="18284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676520" y="685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ad auf nächstes Element 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eim nächsten Abbau wird das entfernte Element vom Garbagecollector gelösc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375640" y="3580920"/>
            <a:ext cx="1734480" cy="1397160"/>
            <a:chOff x="2375640" y="3580920"/>
            <a:chExt cx="1734480" cy="1397160"/>
          </a:xfrm>
        </p:grpSpPr>
        <p:sp>
          <p:nvSpPr>
            <p:cNvPr id="59" name=""/>
            <p:cNvSpPr/>
            <p:nvPr/>
          </p:nvSpPr>
          <p:spPr>
            <a:xfrm flipV="1">
              <a:off x="3119400" y="3580920"/>
              <a:ext cx="9907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531800">
              <a:off x="2438640" y="434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532040" y="3618360"/>
            <a:ext cx="1583280" cy="1460160"/>
            <a:chOff x="4532040" y="3618360"/>
            <a:chExt cx="1583280" cy="1460160"/>
          </a:xfrm>
        </p:grpSpPr>
        <p:sp>
          <p:nvSpPr>
            <p:cNvPr id="62" name=""/>
            <p:cNvSpPr/>
            <p:nvPr/>
          </p:nvSpPr>
          <p:spPr>
            <a:xfrm flipH="1" flipV="1">
              <a:off x="4532040" y="3618360"/>
              <a:ext cx="903240" cy="77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615400">
              <a:off x="5299560" y="441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814480" y="3195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3800" y="3195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8380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es Element erzeu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375640" y="3580920"/>
            <a:ext cx="1734480" cy="1397160"/>
            <a:chOff x="2375640" y="3580920"/>
            <a:chExt cx="1734480" cy="1397160"/>
          </a:xfrm>
        </p:grpSpPr>
        <p:sp>
          <p:nvSpPr>
            <p:cNvPr id="70" name=""/>
            <p:cNvSpPr/>
            <p:nvPr/>
          </p:nvSpPr>
          <p:spPr>
            <a:xfrm flipV="1">
              <a:off x="3119400" y="3580920"/>
              <a:ext cx="9907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9531800">
              <a:off x="2438640" y="434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532040" y="3618360"/>
            <a:ext cx="1583280" cy="1460160"/>
            <a:chOff x="4532040" y="3618360"/>
            <a:chExt cx="1583280" cy="1460160"/>
          </a:xfrm>
        </p:grpSpPr>
        <p:sp>
          <p:nvSpPr>
            <p:cNvPr id="73" name=""/>
            <p:cNvSpPr/>
            <p:nvPr/>
          </p:nvSpPr>
          <p:spPr>
            <a:xfrm flipH="1" flipV="1">
              <a:off x="4532040" y="3618360"/>
              <a:ext cx="903240" cy="77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2615400">
              <a:off x="5299560" y="441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814480" y="3195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3800" y="3195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8380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ad auf das Element 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71000" y="3505320"/>
            <a:ext cx="1734120" cy="1396440"/>
            <a:chOff x="171000" y="3505320"/>
            <a:chExt cx="1734120" cy="1396440"/>
          </a:xfrm>
        </p:grpSpPr>
        <p:sp>
          <p:nvSpPr>
            <p:cNvPr id="81" name=""/>
            <p:cNvSpPr/>
            <p:nvPr/>
          </p:nvSpPr>
          <p:spPr>
            <a:xfrm flipV="1">
              <a:off x="914400" y="350532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531800">
              <a:off x="234000" y="4266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532040" y="3618360"/>
            <a:ext cx="1583280" cy="1460160"/>
            <a:chOff x="4532040" y="3618360"/>
            <a:chExt cx="1583280" cy="1460160"/>
          </a:xfrm>
        </p:grpSpPr>
        <p:sp>
          <p:nvSpPr>
            <p:cNvPr id="84" name=""/>
            <p:cNvSpPr/>
            <p:nvPr/>
          </p:nvSpPr>
          <p:spPr>
            <a:xfrm flipH="1" flipV="1">
              <a:off x="4532040" y="3618360"/>
              <a:ext cx="903240" cy="77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615400">
              <a:off x="5299560" y="441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814480" y="3195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3800" y="3195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914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ad auf das Element 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71000" y="3505320"/>
            <a:ext cx="1734120" cy="1396440"/>
            <a:chOff x="171000" y="3505320"/>
            <a:chExt cx="1734120" cy="1396440"/>
          </a:xfrm>
        </p:grpSpPr>
        <p:sp>
          <p:nvSpPr>
            <p:cNvPr id="92" name=""/>
            <p:cNvSpPr/>
            <p:nvPr/>
          </p:nvSpPr>
          <p:spPr>
            <a:xfrm flipV="1">
              <a:off x="914400" y="350532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531800">
              <a:off x="234000" y="4266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532040" y="3618360"/>
            <a:ext cx="1583280" cy="1460160"/>
            <a:chOff x="4532040" y="3618360"/>
            <a:chExt cx="1583280" cy="1460160"/>
          </a:xfrm>
        </p:grpSpPr>
        <p:sp>
          <p:nvSpPr>
            <p:cNvPr id="95" name=""/>
            <p:cNvSpPr/>
            <p:nvPr/>
          </p:nvSpPr>
          <p:spPr>
            <a:xfrm flipH="1" flipV="1">
              <a:off x="4532040" y="3618360"/>
              <a:ext cx="903240" cy="77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615400">
              <a:off x="5299560" y="441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814480" y="3195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3800" y="3195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914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il auf das Element 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71000" y="3505320"/>
            <a:ext cx="1734120" cy="1396440"/>
            <a:chOff x="171000" y="3505320"/>
            <a:chExt cx="1734120" cy="1396440"/>
          </a:xfrm>
        </p:grpSpPr>
        <p:sp>
          <p:nvSpPr>
            <p:cNvPr id="103" name=""/>
            <p:cNvSpPr/>
            <p:nvPr/>
          </p:nvSpPr>
          <p:spPr>
            <a:xfrm flipV="1">
              <a:off x="914400" y="350532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9531800">
              <a:off x="234000" y="4266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1840" y="3547080"/>
            <a:ext cx="1583280" cy="1460160"/>
            <a:chOff x="2931840" y="3547080"/>
            <a:chExt cx="1583280" cy="1460160"/>
          </a:xfrm>
        </p:grpSpPr>
        <p:sp>
          <p:nvSpPr>
            <p:cNvPr id="106" name=""/>
            <p:cNvSpPr/>
            <p:nvPr/>
          </p:nvSpPr>
          <p:spPr>
            <a:xfrm flipH="1" flipV="1">
              <a:off x="2931840" y="3547080"/>
              <a:ext cx="903240" cy="77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615400">
              <a:off x="3699360" y="4347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814480" y="3195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3800" y="3195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914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il auf das Element 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71000" y="3505320"/>
            <a:ext cx="1734120" cy="1396440"/>
            <a:chOff x="171000" y="3505320"/>
            <a:chExt cx="1734120" cy="1396440"/>
          </a:xfrm>
        </p:grpSpPr>
        <p:sp>
          <p:nvSpPr>
            <p:cNvPr id="114" name=""/>
            <p:cNvSpPr/>
            <p:nvPr/>
          </p:nvSpPr>
          <p:spPr>
            <a:xfrm flipV="1">
              <a:off x="914400" y="350532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9531800">
              <a:off x="234000" y="4266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931840" y="3547080"/>
            <a:ext cx="1583280" cy="1460160"/>
            <a:chOff x="2931840" y="3547080"/>
            <a:chExt cx="1583280" cy="1460160"/>
          </a:xfrm>
        </p:grpSpPr>
        <p:sp>
          <p:nvSpPr>
            <p:cNvPr id="117" name=""/>
            <p:cNvSpPr/>
            <p:nvPr/>
          </p:nvSpPr>
          <p:spPr>
            <a:xfrm flipH="1" flipV="1">
              <a:off x="2931840" y="3547080"/>
              <a:ext cx="903240" cy="77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615400">
              <a:off x="3699360" y="4347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814480" y="3195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3800" y="3195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808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e Elemente anfü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3733920" y="1600200"/>
            <a:ext cx="1066680" cy="1600200"/>
            <a:chOff x="3733920" y="1600200"/>
            <a:chExt cx="1066680" cy="1600200"/>
          </a:xfrm>
        </p:grpSpPr>
        <p:sp>
          <p:nvSpPr>
            <p:cNvPr id="125" name=""/>
            <p:cNvSpPr/>
            <p:nvPr/>
          </p:nvSpPr>
          <p:spPr>
            <a:xfrm>
              <a:off x="3733920" y="160020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hal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33920" y="205740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67080" y="2590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71000" y="3505320"/>
            <a:ext cx="1734120" cy="1396440"/>
            <a:chOff x="171000" y="3505320"/>
            <a:chExt cx="1734120" cy="1396440"/>
          </a:xfrm>
        </p:grpSpPr>
        <p:sp>
          <p:nvSpPr>
            <p:cNvPr id="129" name=""/>
            <p:cNvSpPr/>
            <p:nvPr/>
          </p:nvSpPr>
          <p:spPr>
            <a:xfrm flipV="1">
              <a:off x="914400" y="350532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9531800">
              <a:off x="234000" y="4266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931840" y="3547080"/>
            <a:ext cx="1583280" cy="1460160"/>
            <a:chOff x="2931840" y="3547080"/>
            <a:chExt cx="1583280" cy="1460160"/>
          </a:xfrm>
        </p:grpSpPr>
        <p:sp>
          <p:nvSpPr>
            <p:cNvPr id="132" name=""/>
            <p:cNvSpPr/>
            <p:nvPr/>
          </p:nvSpPr>
          <p:spPr>
            <a:xfrm flipH="1" flipV="1">
              <a:off x="2931840" y="3547080"/>
              <a:ext cx="903240" cy="77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615400">
              <a:off x="3699360" y="4347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814480" y="3195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3800" y="3195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0080" y="25099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0080" y="29671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808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e Elemente anfü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eues Element erzeu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22:20:39Z</dcterms:created>
  <dc:creator>zyx1</dc:creator>
  <dc:description/>
  <dc:language>en-US</dc:language>
  <cp:lastModifiedBy>AFG</cp:lastModifiedBy>
  <dcterms:modified xsi:type="dcterms:W3CDTF">2005-02-22T08:56:48Z</dcterms:modified>
  <cp:revision>6</cp:revision>
  <dc:subject/>
  <dc:title>Aufbau einer Schlange</dc:title>
</cp:coreProperties>
</file>